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02F8-7CB7-40DE-88D4-052C6BFE3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0FA9-CF88-4BA3-AC32-F1F77844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09F-BC6A-4D76-B87A-B45E1417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996-316D-4F9A-9AFD-E45601FD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BB2-4AA7-4F55-A9DE-CBCBCD3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77D-96C8-478C-99D7-0D9752B4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DF8-276F-4E00-9791-DE388EAA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B16-8B38-44BF-A3FB-CCE2328C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A88-0AAA-4763-B9C1-FBBA9792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413-12C5-460F-AF7A-61CF36BC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363-CF97-49F3-B251-7E1E4FE5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BD4-7DA0-4818-8845-5E4612B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4A9-D7D4-4A5B-B1CD-14D58CE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DC6-17AD-4880-B9B4-7D67CCE6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C82-B387-4974-B5C9-CA10675A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9BEE-CFEB-4686-96C9-2A3B4123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7" descr=""/>
          <p:cNvPicPr/>
          <p:nvPr/>
        </p:nvPicPr>
        <p:blipFill>
          <a:blip r:embed="rId1"/>
          <a:stretch/>
        </p:blipFill>
        <p:spPr>
          <a:xfrm>
            <a:off x="2736720" y="3736800"/>
            <a:ext cx="407844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2819520" y="3352680"/>
            <a:ext cx="39621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tanbiem pero yo quiero correr, escribir, usar mi telephono, aprender com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cinar, cantar y desayunar porqùe tengo mucha hamb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ansada hoy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telephono es 718-976-9954 y ahora ya no estoy cansada.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666880" y="5181480"/>
            <a:ext cx="4419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Somos muy buenas amigas no? David y Emily estan muy contentas porque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ejas amigas. Tu eres muy alta tambien! David y Emily son altos tam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guntas por siempre. Y te extraño. Este perro que compramos te extrañ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666880" y="6248520"/>
            <a:ext cx="44197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nemos muchos años juntos por eso te quiero bastante. Tu tienes una buena personalidad. Emily me es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perando. Sus amigas son sympaticas. Ellas tienen muchas ropa que me gusta. Pero no me abburen, 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8:16Z</dcterms:modified>
  <cp:revision>109</cp:revision>
  <dc:subject/>
  <dc:title>Profile</dc:title>
</cp:coreProperties>
</file>